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4.jpeg" ContentType="image/jpeg"/>
  <Override PartName="/ppt/media/image7.png" ContentType="image/png"/>
  <Override PartName="/ppt/media/image37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11.png" ContentType="image/png"/>
  <Override PartName="/ppt/media/image3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31840" y="-360"/>
            <a:ext cx="293220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9373680"/>
            <a:ext cx="293220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31840" y="9373680"/>
            <a:ext cx="293220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5C997-E262-45F8-805D-FB34FC988D0B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5839-8A9C-476B-A9A9-75973509A039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šechny faktury musejí být vystaveny na příjemce dotace (nebo na partnera s finančním příspěvkem). K fakturám musí dodat likvidační protokol, z kterého my poznáme, že byly částky řádně zaúčtovány. Doporučujeme vytvořit si razítko projektu, kterým označí všechny originály dokladů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 důsledku administrativní zátěže nebudeme kontrolovat doklady pod 10tis Kč, tzn. pokud nám je dodají, budeme je ignorovat, jsou pro nás nerelevantní. Něco jiného je samozřejmě pokud si vyžádáme nějaký doklad k namátkové kontrol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0FBF-1E48-469A-A65B-0CF7A9A93197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zor na časté chyby. Pokud chtějí poskytnout partnerovi peníze předem (tzn. dát mu zálohu), musí mít partner zřízený samostatný projektový účet!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artner si účet nemusí zřizovat, pokud výdaj uhradí nejprve ze svého provozního účtu a následně mu jej příjemce proplatí. Způsob financování musí být zakotven v partnerské smlouvě. Pokud chtějí způsob změnit, musí vydat dodatek k partnerské smlouvě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 současnosti časté chyby, pozor pozor, vzniká podezření na porušení rozpočtové kázně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4105-0A34-497D-B51B-149E0740837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Bylo by fajn, kdyby k výdajům na výpisu z účtu dopsali vždy číslo výdaje (podle soupisky) nebo poznámku, že se jedná o nepřímý náklad, nebo mylnou platbu, atd.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7F38-F6A3-4AEF-A8D1-D66EB06F0F4B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ýdaj z předchozího období = opomenutý výdaj nebo výdaj, který věcně nesouvisel s předchozím období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lovní komentář: pokud do soupisky zahrnou výdaj z předchozích období, ať to komentují, abychom se v tom zorientovali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0A81-6D78-417F-9BD5-9869DEDFD5DA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esmí nastat v případě přímých výdajů. V tomto případě by došlo k nesrovnalosti a k podezření na porušení rozpočtové kázně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 nepřímým výdajem je toto možné, částku NN si převedou a co je s ní dál nás už nezajímá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ovinka Příručky pro příjemce verze 4: Osobní náklady-lze si na provozní účet zaslat prostředky z projektového účtu 5 pracovních dnů přede dnem, kdy budou tyto prostředky z provozního účtu uhrazen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A84F-3CF6-4F64-AAE9-8E10F71B2AB3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Do prvního sloupce této přílohy zaneste údaje z </a:t>
            </a:r>
            <a:r>
              <a:rPr b="0" i="1" lang="cs-CZ" sz="1300" spc="-1" strike="noStrike">
                <a:solidFill>
                  <a:srgbClr val="000000"/>
                </a:solidFill>
                <a:latin typeface="Calibri"/>
              </a:rPr>
              <a:t>Přepracovaného rozpočet projektu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ezapomeňte do rozpočtu přidat řádky a zaznamenat tam konkrétní položky tak, aby byl shodný s rozpočtem uvedeným v Rozhodnutí (detailní členění rozpočtu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mocí sloupce </a:t>
            </a:r>
            <a:r>
              <a:rPr b="0" i="1" lang="cs-CZ" sz="1300" spc="-1" strike="noStrike">
                <a:solidFill>
                  <a:srgbClr val="000000"/>
                </a:solidFill>
                <a:latin typeface="Calibri"/>
              </a:rPr>
              <a:t>Pořadová čísla účetních dokladů na soupisce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 bude tato příloha propojena se Soupiskou účetních dokladů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Do řádku nepřímých nákladů (sloupec Aktuálně prokazované výdaje) zadejte skutečně vyčerpané nepřímé náklady, tzn. odvedené na provozní účet nebo na výpisu z projektového účtu identifikovány jako NN. Z tohoto důvodu se celkové způsobilé výdaje nebudou shodovat s částkou ze Soupisky účetních dokladů (v Soupisce jsou totiž NN dopočteny a nemusejí odpovídat skutečně čerpaným N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937C-5A68-458C-BBF6-9B41369106D1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Materiály, které mají příjemci k dispozici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rezentac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eznam příloh monitorovacích zpráv (zelenobílá tabulka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řílohy MZ (excel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88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ýpis z fiktivního účtu a zadání pro praktickou čás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BBAB-A66F-4B8A-9D61-E33E5A312EA2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ezapomeňte do rozpočtu přidat řádky a zaznamenat tam konkrétní položky tak, aby byl shodný s rozpočtem uvedeným v Rozhodnutí (detailní členění rozpočtu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Do sloupce Schválený rozpočet, uveďte aktuální rozpočet, který je v právním aktu, tj. rozpočet v Rozhodnutí, popř. změněný akceptovaným Dodatkem k Rozhodnutí na základě schválené podstatné změn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očet přepracovaný příjemcem- kumulativně od začátku projektu- uvádí se zde všechny nepodstatné změny od začátku realizace projektu, včetně změn, které nastaly v tomto MO. Kumulativně se uvádějí z důvodů kontroly pravidel přesouvání v rámci nepodstatných změn - max 15% nákladů kapitoly, z které jsou prostředky přesouvány.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očet přepracovaný příjemcem- pouze změny v daném monitorovaném období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6CD4D-CFBF-4607-B8CD-AD56A40A8389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328680" indent="-328680">
              <a:spcBef>
                <a:spcPts val="488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yplňte přílohu </a:t>
            </a:r>
            <a:r>
              <a:rPr b="0" i="1" lang="cs-CZ" sz="1300" spc="-1" strike="noStrike">
                <a:solidFill>
                  <a:srgbClr val="000000"/>
                </a:solidFill>
                <a:latin typeface="Calibri"/>
              </a:rPr>
              <a:t>Přepracovaný rozpočet projektu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28680" indent="-328680">
              <a:spcBef>
                <a:spcPts val="488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Takto předělaný rozpočet zaneste do prvního sloupce přílohy </a:t>
            </a:r>
            <a:r>
              <a:rPr b="0" i="1" lang="cs-CZ" sz="1300" spc="-1" strike="noStrike">
                <a:solidFill>
                  <a:srgbClr val="000000"/>
                </a:solidFill>
                <a:latin typeface="Calibri"/>
              </a:rPr>
              <a:t>Přehled čerpání způsobilých výdajů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7D5E-48A1-4381-9EB8-9FEF8946DDD7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racovní výkaz musí minimálně obsahovat tyto údaje (údaje, které jsou v excelovské příloze připravené). Jinak si tam mohou přidat i jiné pole, pokud chtějí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kud je pracovní výkaz podepsán pracovníkem i jeho nadřízeným a jsou řádně vyplněna všechna pole, slouží jako potvrzení o nepřekročení 1,5 úvazku. Pokud podepíše pouze nadřízený pracovník, je potřeba dodat čestné prohlášení o nepřekročení 1,5 úvazku podepsané daným pracovníkem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D6D8E-B924-4D52-A2D1-A3EEFE5C756A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Kolečka a šipky naznačují, jaká pole se sčítají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Oranžová bublina Dopište počet skutečně proplacených hodin- zadává se počet hodin, který byl pracovníkovi proplacen z projektových peněz. Tento údaj nesmí být vyšší než počet hodin vyplývající ze smlouvy (ale může být nižší, což příjemcům říkat nebudeme). Počet hodin zde uvedený může být i nižší než v poli Celkem, protože v těle výkazu může být uvedena práce „navíc“, která může být podkladem pro mimořádnou dměnu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čet skutečně proplacených hodin bude pak uveden v Rozpise mzdových výdajů (zde se započítávají i svátky a dovolená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kud je pracovní výkaz podepsán pracovníkem i jeho nadřízeným a jsou řádně vyplněna všechna pole, slouží jako potvrzení o nepřekročení 1,5 úvazku. Pokud podepíše pouze nadřízený pracovník, je potřeba dodat čestné prohlášení o nepřekročení 1,5 úvazku podepsané daným pracovníkem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5EA9-0BDE-4046-90BC-80DB5593E089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roblematika mzdových výdajů je krásně popsána v newsletteru z června 2010, který je dostupný na webu. Rámeček je hypertextový odkaz, stačí na něj kliknout a ukáže se vám web!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áležitosti pracovní smlouvy jsou v PpP – jen identifikace projektu, popis činnosti relevantní pro projekt, rozsah činnosti (povinnost odevzdávat výkaz už v PpP není!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kud jsou mzdové výdaje hrazeny prvotně z provozního účtu, je vždy potřeba dodat vnitřní účetní doklad - příkaz k refundaci. Výpis z provozního účtu lze nahradit sjetinou z personální systému, kde bude identifikace zaměstnance, číslo jeho účtu a výše celkové vyplacené mzdy nebo čestným prohlášením dotyčného zaměstnance, že deklarovanou částku za dané období skutečně obdržel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Upozorněte příjemce, že musíme ověřovat, zda jsou mzdy/platy v čase a místě obvyklé, tj. budeme potřebovat vnitřní směrnice, projektový manažer OP VK i jiných operáků musí mít stejný platový tarif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6C51A-BFA6-4D83-9D11-08931C363461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ociální pojištění- kdyby se příjemci ptali, jinak neříkat: od nového roku se pravděpodobně zvýší sociální pojištění o 1 %. Kde to mají vzít? Buď si najdou nějaké finance v rozpočtu a převedou si je do kap. 1.2 Sociální pojištění, nebo si to zafinancují sami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F797-6662-4DDE-BCC5-CB3C7DD3089A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lvl="2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opie dokladů o úhradách výdajů (výpis z účtu, pokladní výdajový doklad, faktura,…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latná legislativa je zákon č.262/2009 Sb. Zákoník prác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eškeré cestovní náhrady spojené s </a:t>
            </a:r>
            <a:r>
              <a:rPr b="0" lang="cs-CZ" sz="1300" spc="-1" strike="noStrike" u="sng">
                <a:solidFill>
                  <a:srgbClr val="000000"/>
                </a:solidFill>
                <a:uFillTx/>
                <a:latin typeface="Calibri"/>
              </a:rPr>
              <a:t>vnitrostátními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 pracovními cestami jsou součástí NN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06C59-9E9D-4541-ABEC-01EBC8CDF8F5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D9EE-0558-429C-9945-6B8EE1FCC765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Zeptat se příjemců, zda jejich organizace používá odpisy a zda plánují uplatňovat je v projektu. Když ne, slajd přeskočit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pP str. 46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9ABF-A164-4A3F-B5C9-35AABEEA822D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Mzdové náhrady mohou být poskytovány pouze pedagogickým, akademickým a dalším pracovníkům ve školství, výzkumu a vývoji (PpP str. 57)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Zaměstnavatel cílové skupiny musí s příjemcem/partnerem uzavřít smlouvu o vzdělávání (str.58, doporučuji pročíst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 přílohách MZ je nastaven vzorec na dvojnásobek mzdy, musí si ho buď upravit, nebo si to přepočítat sami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971B-E05E-4F6D-8DF5-966701D31EC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aměstnanec jde na školení 29.9.-1.10.2010- 3 dny, každý den od 9 do 14h, tj. 5 h (čistý čas školení, cesta na školení se nezapočítává). Jelikož se mzdové příspěvky vypočítávají z měsíční hrubé mzdy, musí být každý měsíc zvlášť v řádku. V září to byly dva dny (29. a 30.), tedy 10 h, v říjnu jeden den, tj. 5 hod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ěsíční fond pracovní doby v hodiná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září má 176 h (hrubá mzda 18 000 Kč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říjen má 168 h; předpokládejme, že zaměstnanec čerpal 1 den dovolenou 168 – 8=160 h. (hrubá mzda s náhradou za dovolenou 18 250 Kč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lší odvody- povinné pojištění zaměstnanc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Hodinový mzdový náklad se dopočte sá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dmínka uzantelnosti: v přílohách MZ je nastaven vzorec na 70 % skutečných nákladů a dvojnásobek mzdy, musí si ho upravit na 100 % skutečných nákladů a trojnásobek mz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zdové příspěvky jsou poskytovány do výše 100 % skutečných nákladů, maximálně však do trojnásobku minimální mzdy platné v době školení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 prvním řádku jsou skutečné náklady menší než 3násobek minimální  mzdy (137,48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144,30), takže jsou proplaceny skutečné náklad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V druhém řádku jsou skutečné náklady vyšší než 3násobek minimální mzdy (145,99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144,30), takže je proplacen 3násobek minimální mzd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Do Soupisky bude uveden celkový součet mzdových příspěvků (přílohy, které jsou rozepsány v Rozpisech, se do soupisky dávají souhrnně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ADBB-9BF2-428B-99A0-57C75E589AC3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stupně klikat a rekapitulovat návaznost jednotlivých příloh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oupiska účetních dokladů je navázána na jednotlivé účetní doklady – v soupisce jsou totiž uvedeny všechny přímé výdaje daného monitorovaného období, z účetních dokladů se do soupisky zaznamenává Typ a označení prvotního dokladu, název dodavatele a částka uvedená na dokladu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Souhrnné částky z Rozpisu mzdových výdajů jsou uvedeny v řádcích soupisky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Rozpis je provázán i s pracovním výkazem. </a:t>
            </a:r>
            <a:r>
              <a:rPr b="0" i="1" lang="cs-CZ" sz="1300" spc="-1" strike="noStrike">
                <a:solidFill>
                  <a:srgbClr val="000000"/>
                </a:solidFill>
                <a:latin typeface="Calibri"/>
              </a:rPr>
              <a:t>Počet hodin proplacených v daném měsíci za projekt  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uvedených v pracovním výkazu musí být shodný s počtem odpracovaných hodin uvedených v Rozpisu mzdových výdajů a s počtem hodiny skutečně proplacených z projektu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 soupisce jsou také souhrnné částky z Rozpisu cestovních náhrad i z Rozpisu mzdových příspěvků. Rozpis mzdových příspěvků je na seznam školení napojen pomocí pole Kód školení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a konec je Soupiska napojena i na výpis z projektového či provozního účtu na základě data uskutečnění výdaj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9B12-5D17-44B9-AF46-DB203B42183E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B369-A8F1-41CF-B539-44350BD1978A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7E0AD-7FD6-4503-8127-610292FFE53C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B854-F88C-45CE-8C60-0B890C86595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Do pole Nepřímé náklady napište částku dopočtených nepřímých nákladů. Tuto částku naleznete v soupisce účetních dokladů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ole příjmy zůstává prázdné. Do tohoto pole se dopisují příjmy dle čl. 55, což kladné úroky na projektovém účtu nejsou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Do pole Zdůvodnění platby napište informace o přijatých úrocích. Např. výše kladných úroků na projektovém účtu za dané období je … Kč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AF3E-1E2F-44DF-A6FF-E2A26FFDD3F5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ásky by se lišily  jen v případě, že by měl projekt soukromé financování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B88C-20D2-4CFC-A006-55534ADB0757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308A-EB37-41C1-B46A-1F37B5B0A69B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říklady: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Opakované nedoložení požadovaných podkladů- nebudeme vás při opravě MZ vyzývat do nekonečna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eodůvodněné výdaje- zcela nesouvisející s projektem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Nehospodárný výdaj- mobil pro komunikaci v rámci projektového týmu za 10 tis Kč </a:t>
            </a:r>
            <a:r>
              <a:rPr b="0" lang="cs-CZ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, tiskárna pro tisk MZ za 40 tis Kč apod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Mylné platby- např. dvakrát uhrazená faktura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74EF-9364-4F0F-BB88-0C7D5A07080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Mylná platba- omylem uhrazený výdaj z projektového účtu. Novinka: pokud se jim do 5 pracovních dní od uskutečnění mylné platby povede peníze na projektový účet vrátit, není to mylná platba ani nesrovnalost (PpP str. 31). Data bereme z výpisu z projektového účtu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říjemce je povinen okamžitě po zjištění chyby vrátit danou částku na projektový účet a informovat poskytovatele v nejbližší MZ. Příjemci lze doporučit, aby po dohodě s poskytovatelem a s ÚFO poslal prostředky na účet ÚFO, protože až do tohoto okamžiku se počítá doba pro vyměření penále (PpP str. 32)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Příklady z praxe- FÚ je na příjemce hodný, mylnou platbu většinou odpouští </a:t>
            </a:r>
            <a:r>
              <a:rPr b="0" lang="cs-CZ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8A22-B021-47F3-88F2-D4AC838BDD19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přímé náklady – jsou to </a:t>
            </a:r>
            <a:r>
              <a:rPr b="1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evážně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náklady spojené s administrací projektů, jejich výčet a popis je uveden v P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důraznit, že pokud se budeme obecně bavit o výdajích, budeme mít namysli výdaje přímé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Jen upozornění: nerozlišujeme výdaj a náklad, pokud bychom to rozlišovali tak, jak se má, mluvili bychom jen o výdajíc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0B12-C5A4-4CEB-A59F-D6A58FF9E458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81BD-FF0F-4DA7-B778-16AB838321C2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ájemné prostor pro cílovou skupinu je přímý nákla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F291-15FE-4309-8CB4-9B664D1A1899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Calibri"/>
              </a:rPr>
              <a:t>Výdaj musí věcně souviset s monitorovaným obdobím- př. Letenky na zahraniční cestu, která proběhne až v dalším monitorovaném období; tento výdaj nebude v soupisce zahrnu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3AD2-03AC-4D37-B98F-6AB47F1860F7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13320" cy="44398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Každý příjemce má u sebe vytištěnou soupisku účetních dokladů a prohlíží si ji. Přílohy jsou vytištěné se zobrazením komentářů k buňkám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Nejprve </a:t>
            </a: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záhlaví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 přílohy- stejné u všech příloh: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Registrační číslo projektu CZ…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Název projektu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Název příjemce podpor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Pořadové číslo MZ ve tvaru 1/2010, 2/2011, 3/201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Období – monitorované období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Pořadové číslo výdaje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čísluje si příjemce svou vlastní řadou, doporučujeme ve tvaru </a:t>
            </a:r>
            <a:r>
              <a:rPr b="0" i="1" lang="cs-CZ" sz="900" spc="-1" strike="noStrike">
                <a:solidFill>
                  <a:srgbClr val="000000"/>
                </a:solidFill>
                <a:latin typeface="Calibri"/>
              </a:rPr>
              <a:t>číslo výdaje/MZ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, tj. 1/1, 2/1, 3/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Číslo kapitoly/položky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detailní členění, např. Fotoaparát, pol. 3.3.5, ne jen kapitola 3, dle tohoto sloupce by měla být soupiska řazen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Typ účetního dokladu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faktura, výdajový pokladní dokla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Označení prvotního dokladu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např. číslo faktury či paragonu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Popis výdaje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nebojte se rozeps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Název dodavatele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u mezd není potřeba doplňov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Částky jsou jasné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Datum uskutečnění výdaje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datum uskutečnění výdaje z projektového účtu; v případě, že byl výdaj nejprve hrazen z účtu provozního, napište do závorky ještě toto datum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Calibri"/>
              </a:rPr>
              <a:t>Křížové financování-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první část je KF celkem, druhá část je KF investiční- doplňují se sem aktuálně čerpané výdaje, tedy vyplňujeme jen když jsme v daném období utratili nějaké výdaje z těchto položek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 u="sng">
                <a:solidFill>
                  <a:srgbClr val="000000"/>
                </a:solidFill>
                <a:uFillTx/>
                <a:latin typeface="Calibri"/>
              </a:rPr>
              <a:t>Pro info: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KF- položky rozpočtu 3.8 a 5.2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KF investiční je jen položka 3.8.1 (patří sem např. tiskárna za 50 tis Kč) a 5.2 stavební úpravy v rámci KF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investice- patří sem KF investiční (3.8.1 a 5.2) a nehmotný majetek v pořizovací ceně nad 60 tis Kč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Oranžové bubliny ŽoP-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cs-CZ" sz="900" spc="-1" strike="noStrike">
                <a:solidFill>
                  <a:srgbClr val="000000"/>
                </a:solidFill>
                <a:latin typeface="Calibri"/>
              </a:rPr>
              <a:t> tyto částky zaznamenejte do žádosti o platbu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Zástupný symbol pro číslo snímku 3"/>
          <p:cNvSpPr/>
          <p:nvPr/>
        </p:nvSpPr>
        <p:spPr>
          <a:xfrm>
            <a:off x="3832200" y="9374040"/>
            <a:ext cx="293220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0C01-A4A4-4CA6-A6F2-1F37929C5BE6}" type="slidenum">
              <a:rPr b="0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7120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638040" y="176904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40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57120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638040" y="4059360"/>
            <a:ext cx="29206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90716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04000" y="301320"/>
            <a:ext cx="90716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52680" y="405936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4000" y="301320"/>
            <a:ext cx="90716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400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2680" y="1769040"/>
            <a:ext cx="442692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4000" y="4059360"/>
            <a:ext cx="90716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MSMT_tecky_OK_RGB.ai"/>
          <p:cNvPicPr/>
          <p:nvPr/>
        </p:nvPicPr>
        <p:blipFill>
          <a:blip r:embed="rId2"/>
          <a:stretch/>
        </p:blipFill>
        <p:spPr>
          <a:xfrm>
            <a:off x="1782720" y="40176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995560" y="6405480"/>
            <a:ext cx="426708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8" descr="MSMT_tecky_OK_RGB.ai"/>
          <p:cNvPicPr/>
          <p:nvPr/>
        </p:nvPicPr>
        <p:blipFill>
          <a:blip r:embed="rId2"/>
          <a:stretch/>
        </p:blipFill>
        <p:spPr>
          <a:xfrm>
            <a:off x="1782720" y="40176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995560" y="6405480"/>
            <a:ext cx="4267080" cy="841320"/>
          </a:xfrm>
          <a:prstGeom prst="rect">
            <a:avLst/>
          </a:prstGeom>
          <a:ln w="0">
            <a:noFill/>
          </a:ln>
        </p:spPr>
      </p:pic>
      <p:sp>
        <p:nvSpPr>
          <p:cNvPr id="40" name="TextovéPole 3"/>
          <p:cNvSpPr/>
          <p:nvPr/>
        </p:nvSpPr>
        <p:spPr>
          <a:xfrm>
            <a:off x="2125800" y="2048040"/>
            <a:ext cx="6930720" cy="32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ěkuji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Kontak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mé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dbor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inisterstvo školství, mládeže a tělovýchovy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-mai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newslette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png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image" Target="../media/image2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44520" y="3779640"/>
            <a:ext cx="7796160" cy="132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5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995040" y="1290240"/>
            <a:ext cx="81342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Finanční část monitorovací zprávy 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Zástupný symbol pro text 3"/>
          <p:cNvSpPr/>
          <p:nvPr/>
        </p:nvSpPr>
        <p:spPr>
          <a:xfrm>
            <a:off x="0" y="1569960"/>
            <a:ext cx="95742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opie přiložených dokladů označit číslem, které je uvedeno v Soupisce účetních dokladů - Pořadové číslo vý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riginály dokladů označit registračním číslem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edkládat pouze kopie účetních dokladů s částkou uvedenou na dokladu přesahující 10 000 K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oklady s částkou do 10 000 Kč včet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aznamenány v Soupisce účetních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dokládají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ohou být vyžádány k namátkové kontrole/při kontrole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 fakturám dokládat objednávku a likvidační protok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Kopie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Zástupný symbol pro text 3"/>
          <p:cNvSpPr/>
          <p:nvPr/>
        </p:nvSpPr>
        <p:spPr>
          <a:xfrm>
            <a:off x="-115920" y="1614600"/>
            <a:ext cx="101790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jemce je povinen zřídit samostatný bankovní úč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artner s finančním příspěvk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inancován ex-ante (zálohami) - musí mít projektový úč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inancován ex-post (proplacení uskutečněných výdajů) - nemusí mít samostatný projektový úč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působ proplácení zakotvit v partnerské smlouv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ojektový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Zástupný symbol pro text 3"/>
          <p:cNvSpPr/>
          <p:nvPr/>
        </p:nvSpPr>
        <p:spPr>
          <a:xfrm>
            <a:off x="61920" y="1569960"/>
            <a:ext cx="98233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eškeré úhrady týkající se projektu musí být doloženy výpisem z projektového bankovního ú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601"/>
              </a:spcBef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Financování projektu přednostně z projektového ú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latby finančním partner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Úhrada fak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evod peněz do projektové pokladn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vinná přílo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dentifikace výdajů pořadovým číslem výdaje ze Soupisky účetních dokla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Kopie výpisu z účtu projek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Zástupný symbol pro text 3"/>
          <p:cNvSpPr/>
          <p:nvPr/>
        </p:nvSpPr>
        <p:spPr>
          <a:xfrm>
            <a:off x="150840" y="1569960"/>
            <a:ext cx="92455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e výjimečných (odůvodněných!) případech lze výdaj hradit z jiného než projektového úč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 případě, že je k prvotní úhradě výdaje použit jiný než projektový účet, je příjemce povinen doložit kopii výpisu     z tohoto účt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5840" indent="-236520">
              <a:lnSpc>
                <a:spcPct val="100000"/>
              </a:lnSpc>
              <a:spcBef>
                <a:spcPts val="601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daje vztahující se k jiné činnosti organizace mohou být začerně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daj je uznatelný až po refundaci výdaje z projektového účt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Nadpis 2"/>
          <p:cNvSpPr/>
          <p:nvPr/>
        </p:nvSpPr>
        <p:spPr>
          <a:xfrm>
            <a:off x="684360" y="863640"/>
            <a:ext cx="8694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Jiný 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Obdélník 6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bdélník 8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Čárový popisek 2 10"/>
          <p:cNvSpPr/>
          <p:nvPr/>
        </p:nvSpPr>
        <p:spPr>
          <a:xfrm>
            <a:off x="2062080" y="3557520"/>
            <a:ext cx="275616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Čárový popisek 2 14"/>
          <p:cNvSpPr/>
          <p:nvPr/>
        </p:nvSpPr>
        <p:spPr>
          <a:xfrm>
            <a:off x="5084640" y="3557520"/>
            <a:ext cx="275616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fund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16"/>
          <p:cNvSpPr/>
          <p:nvPr/>
        </p:nvSpPr>
        <p:spPr>
          <a:xfrm>
            <a:off x="1039680" y="20019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bude zahrnut do M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Čárový popisek 2 10"/>
          <p:cNvSpPr/>
          <p:nvPr/>
        </p:nvSpPr>
        <p:spPr>
          <a:xfrm>
            <a:off x="3751200" y="355752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4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Čárový popisek 2 14"/>
          <p:cNvSpPr/>
          <p:nvPr/>
        </p:nvSpPr>
        <p:spPr>
          <a:xfrm>
            <a:off x="6996240" y="355752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fund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bdélník 15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ovéPole 16"/>
          <p:cNvSpPr/>
          <p:nvPr/>
        </p:nvSpPr>
        <p:spPr>
          <a:xfrm>
            <a:off x="1039680" y="20019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bude zahrnut do MZ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bdélník 17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Čárový popisek 2 10"/>
          <p:cNvSpPr/>
          <p:nvPr/>
        </p:nvSpPr>
        <p:spPr>
          <a:xfrm>
            <a:off x="6773760" y="2001960"/>
            <a:ext cx="2756160" cy="933480"/>
          </a:xfrm>
          <a:prstGeom prst="borderCallout2">
            <a:avLst>
              <a:gd name="adj1" fmla="val 18750"/>
              <a:gd name="adj2" fmla="val -8333"/>
              <a:gd name="adj3" fmla="val 255004"/>
              <a:gd name="adj4" fmla="val 20097"/>
              <a:gd name="adj5" fmla="val 336078"/>
              <a:gd name="adj6" fmla="val 15310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2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Čárový popisek 2 14"/>
          <p:cNvSpPr/>
          <p:nvPr/>
        </p:nvSpPr>
        <p:spPr>
          <a:xfrm>
            <a:off x="6951600" y="3201840"/>
            <a:ext cx="2755800" cy="1155960"/>
          </a:xfrm>
          <a:prstGeom prst="borderCallout2">
            <a:avLst>
              <a:gd name="adj1" fmla="val 18750"/>
              <a:gd name="adj2" fmla="val -8333"/>
              <a:gd name="adj3" fmla="val 140689"/>
              <a:gd name="adj4" fmla="val 18925"/>
              <a:gd name="adj5" fmla="val 169902"/>
              <a:gd name="adj6" fmla="val 15310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fund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bdélník 15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ovéPole 16"/>
          <p:cNvSpPr/>
          <p:nvPr/>
        </p:nvSpPr>
        <p:spPr>
          <a:xfrm>
            <a:off x="1039680" y="2001960"/>
            <a:ext cx="422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nebude zahrnut do této MZ, ale až do následujíc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7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Čárový popisek 2 10"/>
          <p:cNvSpPr/>
          <p:nvPr/>
        </p:nvSpPr>
        <p:spPr>
          <a:xfrm>
            <a:off x="328680" y="355752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43217"/>
              <a:gd name="adj4" fmla="val 12685"/>
              <a:gd name="adj5" fmla="val 170125"/>
              <a:gd name="adj6" fmla="val 4768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votní 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0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Čárový popisek 2 14"/>
          <p:cNvSpPr/>
          <p:nvPr/>
        </p:nvSpPr>
        <p:spPr>
          <a:xfrm>
            <a:off x="3884760" y="3557520"/>
            <a:ext cx="2755800" cy="9334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fundace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5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ovéPole 16"/>
          <p:cNvSpPr/>
          <p:nvPr/>
        </p:nvSpPr>
        <p:spPr>
          <a:xfrm>
            <a:off x="1039680" y="2001960"/>
            <a:ext cx="62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z minulých období může být zahrnut do MZ (+ slovní komentá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délník 17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délník 11"/>
          <p:cNvSpPr/>
          <p:nvPr/>
        </p:nvSpPr>
        <p:spPr>
          <a:xfrm>
            <a:off x="328680" y="5157720"/>
            <a:ext cx="71100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Obdélník 8"/>
          <p:cNvSpPr/>
          <p:nvPr/>
        </p:nvSpPr>
        <p:spPr>
          <a:xfrm>
            <a:off x="7040520" y="5157720"/>
            <a:ext cx="2222640" cy="53352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Vypracování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Čárový popisek 2 10"/>
          <p:cNvSpPr/>
          <p:nvPr/>
        </p:nvSpPr>
        <p:spPr>
          <a:xfrm>
            <a:off x="4773600" y="3335400"/>
            <a:ext cx="2755800" cy="10666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Výdaj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vozního ú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Přímá spojovací šipka 13"/>
          <p:cNvCxnSpPr/>
          <p:nvPr/>
        </p:nvCxnSpPr>
        <p:spPr>
          <a:xfrm>
            <a:off x="995040" y="5957640"/>
            <a:ext cx="83127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0" name="TextovéPole 14"/>
          <p:cNvSpPr/>
          <p:nvPr/>
        </p:nvSpPr>
        <p:spPr>
          <a:xfrm>
            <a:off x="8729640" y="604692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Bankovní ú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Čárový popisek 2 14"/>
          <p:cNvSpPr/>
          <p:nvPr/>
        </p:nvSpPr>
        <p:spPr>
          <a:xfrm>
            <a:off x="1440000" y="3335400"/>
            <a:ext cx="2755800" cy="1066680"/>
          </a:xfrm>
          <a:prstGeom prst="borderCallout2">
            <a:avLst>
              <a:gd name="adj1" fmla="val 18750"/>
              <a:gd name="adj2" fmla="val -8333"/>
              <a:gd name="adj3" fmla="val 139759"/>
              <a:gd name="adj4" fmla="val 17365"/>
              <a:gd name="adj5" fmla="val 168972"/>
              <a:gd name="adj6" fmla="val 12574"/>
            </a:avLst>
          </a:prstGeom>
          <a:solidFill>
            <a:srgbClr val="ffffff"/>
          </a:solidFill>
          <a:ln w="284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evod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z projektového na provozní úč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ovéPole 11"/>
          <p:cNvSpPr/>
          <p:nvPr/>
        </p:nvSpPr>
        <p:spPr>
          <a:xfrm>
            <a:off x="225360" y="1557360"/>
            <a:ext cx="98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х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ímý výdaj- nelze (nelze si na provozní účet předfinancovat nákup 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bdélník 15"/>
          <p:cNvSpPr/>
          <p:nvPr/>
        </p:nvSpPr>
        <p:spPr>
          <a:xfrm>
            <a:off x="1084320" y="5157720"/>
            <a:ext cx="5911920" cy="533520"/>
          </a:xfrm>
          <a:prstGeom prst="rect">
            <a:avLst/>
          </a:prstGeom>
          <a:gradFill rotWithShape="0">
            <a:gsLst>
              <a:gs pos="0">
                <a:srgbClr val="2787a0"/>
              </a:gs>
              <a:gs pos="100000">
                <a:srgbClr val="34b3d6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Calibri"/>
              </a:rPr>
              <a:t>Monitorované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17"/>
          <p:cNvSpPr/>
          <p:nvPr/>
        </p:nvSpPr>
        <p:spPr>
          <a:xfrm>
            <a:off x="179280" y="1995480"/>
            <a:ext cx="93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ovinka v PpP 4: lze si předfinancovat mzdy – 5 pracovních dní pře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16"/>
          <p:cNvSpPr/>
          <p:nvPr/>
        </p:nvSpPr>
        <p:spPr>
          <a:xfrm>
            <a:off x="179280" y="2430360"/>
            <a:ext cx="93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přímé výdaje lze převést na provozní účet a pak je postupně čerp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Zástupný symbol pro text 3"/>
          <p:cNvSpPr/>
          <p:nvPr/>
        </p:nvSpPr>
        <p:spPr>
          <a:xfrm>
            <a:off x="17640" y="1957320"/>
            <a:ext cx="97344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Nadpis 2"/>
          <p:cNvSpPr/>
          <p:nvPr/>
        </p:nvSpPr>
        <p:spPr>
          <a:xfrm>
            <a:off x="3729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řehled čerpání způsobilých výdajů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417600" y="2097000"/>
            <a:ext cx="9273960" cy="1771560"/>
          </a:xfrm>
          <a:prstGeom prst="rect">
            <a:avLst/>
          </a:prstGeom>
          <a:ln w="0">
            <a:noFill/>
          </a:ln>
        </p:spPr>
      </p:pic>
      <p:sp>
        <p:nvSpPr>
          <p:cNvPr id="170" name="Zástupný symbol pro text 3"/>
          <p:cNvSpPr/>
          <p:nvPr/>
        </p:nvSpPr>
        <p:spPr>
          <a:xfrm>
            <a:off x="-27000" y="4179960"/>
            <a:ext cx="9734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latný rozpočet- vychází z přílohy Přepracovaný rozpočet, tzn. jsou v něm zapracovány nepodstatné změny rozpo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lipsa 6"/>
          <p:cNvSpPr/>
          <p:nvPr/>
        </p:nvSpPr>
        <p:spPr>
          <a:xfrm>
            <a:off x="2995560" y="2090880"/>
            <a:ext cx="978120" cy="1288800"/>
          </a:xfrm>
          <a:prstGeom prst="ellipse">
            <a:avLst/>
          </a:prstGeom>
          <a:noFill/>
          <a:ln w="38160">
            <a:solidFill>
              <a:srgbClr val="f3912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Zástupný symbol pro text 3"/>
          <p:cNvSpPr/>
          <p:nvPr/>
        </p:nvSpPr>
        <p:spPr>
          <a:xfrm>
            <a:off x="270000" y="1981080"/>
            <a:ext cx="8373960" cy="31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mé a nepřímé nákl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lohy monitorovací zprá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adání žádosti o platb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dezření na porušení rozpočtové káz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Obs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Zástupný symbol pro text 3"/>
          <p:cNvSpPr/>
          <p:nvPr/>
        </p:nvSpPr>
        <p:spPr>
          <a:xfrm>
            <a:off x="17640" y="1957320"/>
            <a:ext cx="97344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Nadpis 2"/>
          <p:cNvSpPr/>
          <p:nvPr/>
        </p:nvSpPr>
        <p:spPr>
          <a:xfrm>
            <a:off x="3729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řepracovaný rozpočet projektu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506520" y="1671480"/>
            <a:ext cx="9165960" cy="1575000"/>
          </a:xfrm>
          <a:prstGeom prst="rect">
            <a:avLst/>
          </a:prstGeom>
          <a:ln w="0">
            <a:noFill/>
          </a:ln>
        </p:spPr>
      </p:pic>
      <p:sp>
        <p:nvSpPr>
          <p:cNvPr id="175" name="Zástupný symbol pro text 3"/>
          <p:cNvSpPr/>
          <p:nvPr/>
        </p:nvSpPr>
        <p:spPr>
          <a:xfrm>
            <a:off x="169920" y="4179960"/>
            <a:ext cx="9734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ástupný symbol pro text 3"/>
          <p:cNvSpPr/>
          <p:nvPr/>
        </p:nvSpPr>
        <p:spPr>
          <a:xfrm>
            <a:off x="-27000" y="3424320"/>
            <a:ext cx="988236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Schválený rozpočet- vychází z Rozhodnutí o poskytnutí dotace či z relevantního Dodat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očet přepracovaný příjemcem- kumulativně od začátku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očet přepracovaný příjemcem- pouze změny v daném monitorovaném obdob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Přímá spojovací šipka 8"/>
          <p:cNvCxnSpPr/>
          <p:nvPr/>
        </p:nvCxnSpPr>
        <p:spPr>
          <a:xfrm flipH="1">
            <a:off x="2506320" y="2268000"/>
            <a:ext cx="978480" cy="12898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headEnd len="med" type="triangle" w="med"/>
          </a:ln>
        </p:spPr>
      </p:cxnSp>
      <p:cxnSp>
        <p:nvCxnSpPr>
          <p:cNvPr id="178" name="Přímá spojovací šipka 12"/>
          <p:cNvCxnSpPr/>
          <p:nvPr/>
        </p:nvCxnSpPr>
        <p:spPr>
          <a:xfrm flipH="1">
            <a:off x="2550240" y="2357280"/>
            <a:ext cx="3290040" cy="2223360"/>
          </a:xfrm>
          <a:prstGeom prst="straightConnector1">
            <a:avLst/>
          </a:prstGeom>
          <a:ln w="38160">
            <a:solidFill>
              <a:srgbClr val="f79646"/>
            </a:solidFill>
            <a:miter/>
            <a:headEnd len="med" type="triangle" w="med"/>
          </a:ln>
        </p:spPr>
      </p:cxnSp>
      <p:cxnSp>
        <p:nvCxnSpPr>
          <p:cNvPr id="179" name="Přímá spojovací šipka 15"/>
          <p:cNvCxnSpPr/>
          <p:nvPr/>
        </p:nvCxnSpPr>
        <p:spPr>
          <a:xfrm flipH="1">
            <a:off x="2550240" y="2357280"/>
            <a:ext cx="6224040" cy="3245760"/>
          </a:xfrm>
          <a:prstGeom prst="straightConnector1">
            <a:avLst/>
          </a:prstGeom>
          <a:ln w="38160">
            <a:solidFill>
              <a:srgbClr val="f79646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Zástupný symbol pro text 3"/>
          <p:cNvSpPr/>
          <p:nvPr/>
        </p:nvSpPr>
        <p:spPr>
          <a:xfrm>
            <a:off x="17640" y="1957320"/>
            <a:ext cx="97344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"/>
          <p:cNvPicPr/>
          <p:nvPr/>
        </p:nvPicPr>
        <p:blipFill>
          <a:blip r:embed="rId1"/>
          <a:stretch/>
        </p:blipFill>
        <p:spPr>
          <a:xfrm>
            <a:off x="541440" y="1743120"/>
            <a:ext cx="9165960" cy="1574640"/>
          </a:xfrm>
          <a:prstGeom prst="rect">
            <a:avLst/>
          </a:prstGeom>
          <a:ln w="0">
            <a:noFill/>
          </a:ln>
        </p:spPr>
      </p:pic>
      <p:sp>
        <p:nvSpPr>
          <p:cNvPr id="182" name="Zástupný symbol pro text 3"/>
          <p:cNvSpPr/>
          <p:nvPr/>
        </p:nvSpPr>
        <p:spPr>
          <a:xfrm>
            <a:off x="169920" y="4179960"/>
            <a:ext cx="97344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423720" y="3875040"/>
            <a:ext cx="9274320" cy="1771560"/>
          </a:xfrm>
          <a:prstGeom prst="rect">
            <a:avLst/>
          </a:prstGeom>
          <a:ln w="0">
            <a:noFill/>
          </a:ln>
        </p:spPr>
      </p:pic>
      <p:sp>
        <p:nvSpPr>
          <p:cNvPr id="184" name="Obdélník 6"/>
          <p:cNvSpPr/>
          <p:nvPr/>
        </p:nvSpPr>
        <p:spPr>
          <a:xfrm rot="20862600">
            <a:off x="290520" y="1506600"/>
            <a:ext cx="3589200" cy="48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epracovaný rozpoč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Přímá spojovací šipka 10"/>
          <p:cNvCxnSpPr/>
          <p:nvPr/>
        </p:nvCxnSpPr>
        <p:spPr>
          <a:xfrm flipH="1">
            <a:off x="3563280" y="2409840"/>
            <a:ext cx="2445480" cy="18676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  <p:sp>
        <p:nvSpPr>
          <p:cNvPr id="186" name="Obdélník 12"/>
          <p:cNvSpPr/>
          <p:nvPr/>
        </p:nvSpPr>
        <p:spPr>
          <a:xfrm rot="20862600">
            <a:off x="274680" y="3825720"/>
            <a:ext cx="358920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Přehled čerpání způsobilých výdaj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Zástupný symbol pro text 3"/>
          <p:cNvSpPr/>
          <p:nvPr/>
        </p:nvSpPr>
        <p:spPr>
          <a:xfrm>
            <a:off x="17640" y="1957320"/>
            <a:ext cx="973440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dentifikace projektu, název subjektu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Identifikace pracovníka a zastávané funkce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(odkaz na položku rozpočtu, např. 1.1.1.1.5 Řešitel projek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Údaje o úvazku v projektu, popřípadě o zapojení do dalších projektů v téže organizaci či u partn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 případě, že pracovní výkaz podepíše i pracovník, není potřeba zvlášť dodávat čestné prohlášení o nepřekročení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1,5 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úvaz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Časový rozsah práce dle smlouvy a podrobný popis čin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acovní výk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acovní výk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177840" y="2046240"/>
            <a:ext cx="9485280" cy="3159000"/>
          </a:xfrm>
          <a:prstGeom prst="rect">
            <a:avLst/>
          </a:prstGeom>
          <a:ln w="0">
            <a:noFill/>
          </a:ln>
        </p:spPr>
      </p:pic>
      <p:sp>
        <p:nvSpPr>
          <p:cNvPr id="191" name="Elipsa 5"/>
          <p:cNvSpPr/>
          <p:nvPr/>
        </p:nvSpPr>
        <p:spPr>
          <a:xfrm>
            <a:off x="3129120" y="4091040"/>
            <a:ext cx="888840" cy="39996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lipsa 6"/>
          <p:cNvSpPr/>
          <p:nvPr/>
        </p:nvSpPr>
        <p:spPr>
          <a:xfrm>
            <a:off x="6373800" y="4091040"/>
            <a:ext cx="888840" cy="39996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lipsa 7"/>
          <p:cNvSpPr/>
          <p:nvPr/>
        </p:nvSpPr>
        <p:spPr>
          <a:xfrm>
            <a:off x="6951600" y="4668840"/>
            <a:ext cx="533520" cy="22212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Zakřivená spojovací čára 9"/>
          <p:cNvCxnSpPr>
            <a:stCxn id="192" idx="6"/>
            <a:endCxn id="193" idx="6"/>
          </p:cNvCxnSpPr>
          <p:nvPr/>
        </p:nvCxnSpPr>
        <p:spPr>
          <a:xfrm>
            <a:off x="7262640" y="4290480"/>
            <a:ext cx="223200" cy="489600"/>
          </a:xfrm>
          <a:prstGeom prst="curvedConnector5">
            <a:avLst>
              <a:gd name="adj1" fmla="val 202746"/>
              <a:gd name="adj2" fmla="val 49963"/>
              <a:gd name="adj3" fmla="val 202746"/>
            </a:avLst>
          </a:prstGeom>
          <a:ln w="25560">
            <a:solidFill>
              <a:srgbClr val="f79646"/>
            </a:solidFill>
            <a:miter/>
            <a:tailEnd len="lg" type="triangle" w="lg"/>
          </a:ln>
        </p:spPr>
      </p:cxnSp>
      <p:cxnSp>
        <p:nvCxnSpPr>
          <p:cNvPr id="195" name="Přímá spojovací šipka 16"/>
          <p:cNvCxnSpPr>
            <a:stCxn id="191" idx="6"/>
            <a:endCxn id="192" idx="2"/>
          </p:cNvCxnSpPr>
          <p:nvPr/>
        </p:nvCxnSpPr>
        <p:spPr>
          <a:xfrm>
            <a:off x="4017960" y="4290480"/>
            <a:ext cx="2356560" cy="3960"/>
          </a:xfrm>
          <a:prstGeom prst="straightConnector1">
            <a:avLst/>
          </a:prstGeom>
          <a:ln w="25560">
            <a:solidFill>
              <a:srgbClr val="f79646"/>
            </a:solidFill>
            <a:miter/>
          </a:ln>
        </p:spPr>
      </p:cxnSp>
      <p:grpSp>
        <p:nvGrpSpPr>
          <p:cNvPr id="196" name="Zaoblený obdélníkový popisek 20"/>
          <p:cNvGrpSpPr/>
          <p:nvPr/>
        </p:nvGrpSpPr>
        <p:grpSpPr>
          <a:xfrm>
            <a:off x="5114880" y="5035680"/>
            <a:ext cx="2200320" cy="1127160"/>
            <a:chOff x="5114880" y="5035680"/>
            <a:chExt cx="2200320" cy="1127160"/>
          </a:xfrm>
        </p:grpSpPr>
        <p:pic>
          <p:nvPicPr>
            <p:cNvPr id="197" name="Zaoblený obdélníkový popisek 20" descr=""/>
            <p:cNvPicPr/>
            <p:nvPr/>
          </p:nvPicPr>
          <p:blipFill>
            <a:blip r:embed="rId2"/>
            <a:stretch/>
          </p:blipFill>
          <p:spPr>
            <a:xfrm>
              <a:off x="5114880" y="5035680"/>
              <a:ext cx="220032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5213520" y="5330880"/>
              <a:ext cx="200952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ffff"/>
                  </a:solidFill>
                  <a:latin typeface="Calibri"/>
                </a:rPr>
                <a:t>Dopište počet skutečně proplacených hod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" name="Elipsa 10"/>
          <p:cNvSpPr/>
          <p:nvPr/>
        </p:nvSpPr>
        <p:spPr>
          <a:xfrm>
            <a:off x="5707080" y="2757600"/>
            <a:ext cx="888840" cy="39996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Přímá spojovací šipka 12"/>
          <p:cNvCxnSpPr>
            <a:stCxn id="191" idx="7"/>
            <a:endCxn id="199" idx="3"/>
          </p:cNvCxnSpPr>
          <p:nvPr/>
        </p:nvCxnSpPr>
        <p:spPr>
          <a:xfrm flipV="1">
            <a:off x="3887640" y="3098160"/>
            <a:ext cx="1950480" cy="1051560"/>
          </a:xfrm>
          <a:prstGeom prst="straightConnector1">
            <a:avLst/>
          </a:prstGeom>
          <a:ln w="25560">
            <a:solidFill>
              <a:srgbClr val="f7964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Zástupný symbol pro text 3"/>
          <p:cNvSpPr/>
          <p:nvPr/>
        </p:nvSpPr>
        <p:spPr>
          <a:xfrm>
            <a:off x="17640" y="1738440"/>
            <a:ext cx="9601200" cy="44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acovní smlou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platní listina, výplatní páska, mzdové li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bo sjetina z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pis z projektového/provozního ú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bo sjetina z personálního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bo čestné prohlášení zaměstnanc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racovní výkaz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mzdových výda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př. další relevantní dokl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Mzdové výd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5">
            <a:hlinkClick r:id="rId1"/>
          </p:cNvPr>
          <p:cNvSpPr/>
          <p:nvPr/>
        </p:nvSpPr>
        <p:spPr>
          <a:xfrm>
            <a:off x="6862680" y="5468760"/>
            <a:ext cx="2173320" cy="489240"/>
          </a:xfrm>
          <a:prstGeom prst="rect">
            <a:avLst/>
          </a:prstGeom>
          <a:solidFill>
            <a:srgbClr val="ffffff"/>
          </a:solidFill>
          <a:ln w="255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7f7f7f"/>
                </a:solidFill>
                <a:latin typeface="Calibri"/>
              </a:rPr>
              <a:t>Viz Newsletter Osobní nákla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Mzdové výd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Obrázek 6" descr="rozpis mezd_1.JPG"/>
          <p:cNvPicPr/>
          <p:nvPr/>
        </p:nvPicPr>
        <p:blipFill>
          <a:blip r:embed="rId1"/>
          <a:stretch/>
        </p:blipFill>
        <p:spPr>
          <a:xfrm>
            <a:off x="284040" y="2046240"/>
            <a:ext cx="9352080" cy="1225440"/>
          </a:xfrm>
          <a:prstGeom prst="rect">
            <a:avLst/>
          </a:prstGeom>
          <a:ln w="0">
            <a:noFill/>
          </a:ln>
        </p:spPr>
      </p:pic>
      <p:pic>
        <p:nvPicPr>
          <p:cNvPr id="206" name="Obrázek 6" descr="rozpis mezd_2.JPG"/>
          <p:cNvPicPr/>
          <p:nvPr/>
        </p:nvPicPr>
        <p:blipFill>
          <a:blip r:embed="rId2"/>
          <a:stretch/>
        </p:blipFill>
        <p:spPr>
          <a:xfrm>
            <a:off x="284040" y="3246480"/>
            <a:ext cx="7629480" cy="1422360"/>
          </a:xfrm>
          <a:prstGeom prst="rect">
            <a:avLst/>
          </a:prstGeom>
          <a:ln w="0">
            <a:noFill/>
          </a:ln>
        </p:spPr>
      </p:pic>
      <p:pic>
        <p:nvPicPr>
          <p:cNvPr id="207" name="Obrázek 8" descr="rozpis mezd_3.JPG"/>
          <p:cNvPicPr/>
          <p:nvPr/>
        </p:nvPicPr>
        <p:blipFill>
          <a:blip r:embed="rId3"/>
          <a:stretch/>
        </p:blipFill>
        <p:spPr>
          <a:xfrm>
            <a:off x="2587680" y="4713120"/>
            <a:ext cx="7075440" cy="14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Zástupný symbol pro text 3"/>
          <p:cNvSpPr/>
          <p:nvPr/>
        </p:nvSpPr>
        <p:spPr>
          <a:xfrm>
            <a:off x="506520" y="1868400"/>
            <a:ext cx="91123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cestovních náhr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opie dokladů o úhradách výdaj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práva ze služební cesty zahranič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jemce archivu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estovní příkaz včetně vyúčt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riginály souvisejících účetních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Další doklady dané platnou legislativ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Cestovní náhrady tuzemské jsou součástí N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Cestovní náhrady zahranič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Cestovní náhr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Obrázek 5" descr="cestovní.bmp"/>
          <p:cNvPicPr/>
          <p:nvPr/>
        </p:nvPicPr>
        <p:blipFill>
          <a:blip r:embed="rId1"/>
          <a:srcRect l="65" t="0" r="0" b="0"/>
          <a:stretch/>
        </p:blipFill>
        <p:spPr>
          <a:xfrm>
            <a:off x="157320" y="3157560"/>
            <a:ext cx="9612000" cy="1357200"/>
          </a:xfrm>
          <a:prstGeom prst="rect">
            <a:avLst/>
          </a:prstGeom>
          <a:ln w="0">
            <a:noFill/>
          </a:ln>
        </p:spPr>
      </p:pic>
      <p:sp>
        <p:nvSpPr>
          <p:cNvPr id="212" name="Zástupný symbol pro text 3"/>
          <p:cNvSpPr/>
          <p:nvPr/>
        </p:nvSpPr>
        <p:spPr>
          <a:xfrm>
            <a:off x="506520" y="1868400"/>
            <a:ext cx="91123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cestovních náhrad - zahraničn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Zástupný symbol pro text 3"/>
          <p:cNvSpPr/>
          <p:nvPr/>
        </p:nvSpPr>
        <p:spPr>
          <a:xfrm>
            <a:off x="-71280" y="1735200"/>
            <a:ext cx="9912240" cy="546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395280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aňové odpisy vlastního dlouhodobého hmotného nebo nehmotného majetk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k nákupu dotčeného majetku nebyly využity veřejné prostředk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jsou uplatňovány v alikvotní výši s ohledem na míru využití daného majetku v rámci realizace projekt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Calibri"/>
              </a:rPr>
              <a:t>jsou uplatňovány pouze po dobu realizace projekt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je možné doložit je účetním dokladem dokládajícím pořizovací cenu majetk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majetek je odpisován dle odpisového plánu příjem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ýše ročních odpisů je stanovena jednou z metod daňového odpisu pro účely daně z příjmu pro jednotlivé druhy majetku a jsou způsobilé pouze po dobu, kdy je majetek využíván pro účely projekt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39528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příjemce si vybere formu odpisování, kterou bude používat po celou dobu realizace projekt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Odpi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Mzdové příspěv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Zástupný symbol pro text 3"/>
          <p:cNvSpPr/>
          <p:nvPr/>
        </p:nvSpPr>
        <p:spPr>
          <a:xfrm>
            <a:off x="506520" y="1868400"/>
            <a:ext cx="911232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má podpora cílové skupi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áhrada zaměstnavateli za pracovníka, který je vzděláv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Max. do výše trojnásobku minimální mz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uze za dobu školení (v hodiná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35080" indent="-23508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utno uzavřít smlouvu o vzdělá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0400" y="3068640"/>
            <a:ext cx="81788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Přímé a nepřímé náklad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Mzdové příspěv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417600" y="1646280"/>
          <a:ext cx="7467480" cy="1401840"/>
        </p:xfrm>
        <a:graphic>
          <a:graphicData uri="http://schemas.openxmlformats.org/drawingml/2006/table">
            <a:tbl>
              <a:tblPr/>
              <a:tblGrid>
                <a:gridCol w="844560"/>
                <a:gridCol w="1778040"/>
                <a:gridCol w="1363680"/>
                <a:gridCol w="1027080"/>
                <a:gridCol w="1027080"/>
                <a:gridCol w="1427040"/>
              </a:tblGrid>
              <a:tr h="826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 a příjmení zaměstnance</a:t>
                      </a:r>
                      <a:r>
                        <a:rPr b="0" lang="cs-CZ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ěsíc škol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kolení dle kó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 hodin  škol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ěsíční fond pracovní doby v hodiná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87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am Nová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am Nová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084320" y="3157560"/>
          <a:ext cx="7208640" cy="1733400"/>
        </p:xfrm>
        <a:graphic>
          <a:graphicData uri="http://schemas.openxmlformats.org/drawingml/2006/table">
            <a:tbl>
              <a:tblPr/>
              <a:tblGrid>
                <a:gridCol w="1527120"/>
                <a:gridCol w="1006560"/>
                <a:gridCol w="836640"/>
                <a:gridCol w="922320"/>
                <a:gridCol w="920520"/>
                <a:gridCol w="922320"/>
                <a:gridCol w="1073160"/>
              </a:tblGrid>
              <a:tr h="1090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účtovaná hrubá mzda  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jistné na sociální a zdravotní pojiště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odvo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dinový mzdový náklad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minimální mzdy za hodin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mínka uznatel-</a:t>
                      </a:r>
                      <a:br>
                        <a:rPr sz="1600"/>
                      </a:b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sti v Kč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natelný mzdový náklad 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207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,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,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3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22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,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,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4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220" name="Zástupný symbol pro text 3"/>
          <p:cNvSpPr/>
          <p:nvPr/>
        </p:nvSpPr>
        <p:spPr>
          <a:xfrm>
            <a:off x="-71280" y="5113440"/>
            <a:ext cx="99122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Školení 29.9.2010-1.10.2010, každý den 5 hodi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Hrubá mzda 18 000 Kč/měsí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Říjen - čerpaná dovolená 1 de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Zaoblený obdélníkový popisek 10"/>
          <p:cNvGrpSpPr/>
          <p:nvPr/>
        </p:nvGrpSpPr>
        <p:grpSpPr>
          <a:xfrm>
            <a:off x="8352000" y="3017880"/>
            <a:ext cx="1590480" cy="1468440"/>
            <a:chOff x="8352000" y="3017880"/>
            <a:chExt cx="1590480" cy="1468440"/>
          </a:xfrm>
        </p:grpSpPr>
        <p:pic>
          <p:nvPicPr>
            <p:cNvPr id="222" name="Zaoblený obdélníkový popisek 10" descr=""/>
            <p:cNvPicPr/>
            <p:nvPr/>
          </p:nvPicPr>
          <p:blipFill>
            <a:blip r:embed="rId1"/>
            <a:stretch/>
          </p:blipFill>
          <p:spPr>
            <a:xfrm>
              <a:off x="8352000" y="3017880"/>
              <a:ext cx="159048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8553600" y="3114720"/>
              <a:ext cx="1285560" cy="84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100 % skutečných náklad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Zaoblený obdélníkový popisek 11"/>
          <p:cNvGrpSpPr/>
          <p:nvPr/>
        </p:nvGrpSpPr>
        <p:grpSpPr>
          <a:xfrm>
            <a:off x="8253360" y="4675320"/>
            <a:ext cx="1689120" cy="1670040"/>
            <a:chOff x="8253360" y="4675320"/>
            <a:chExt cx="1689120" cy="1670040"/>
          </a:xfrm>
        </p:grpSpPr>
        <p:pic>
          <p:nvPicPr>
            <p:cNvPr id="225" name="Zaoblený obdélníkový popisek 11" descr=""/>
            <p:cNvPicPr/>
            <p:nvPr/>
          </p:nvPicPr>
          <p:blipFill>
            <a:blip r:embed="rId2"/>
            <a:stretch/>
          </p:blipFill>
          <p:spPr>
            <a:xfrm>
              <a:off x="8253360" y="4675320"/>
              <a:ext cx="1689120" cy="167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8361360" y="5297400"/>
              <a:ext cx="147492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Trojnásobek minimální mz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7" name=""/>
          <p:cNvGraphicFramePr/>
          <p:nvPr/>
        </p:nvGraphicFramePr>
        <p:xfrm>
          <a:off x="7218360" y="4890960"/>
          <a:ext cx="1073160" cy="371520"/>
        </p:xfrm>
        <a:graphic>
          <a:graphicData uri="http://schemas.openxmlformats.org/drawingml/2006/table">
            <a:tbl>
              <a:tblPr/>
              <a:tblGrid>
                <a:gridCol w="10731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0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Obdélník 18"/>
          <p:cNvGrpSpPr/>
          <p:nvPr/>
        </p:nvGrpSpPr>
        <p:grpSpPr>
          <a:xfrm>
            <a:off x="6066000" y="4187880"/>
            <a:ext cx="1846080" cy="1311120"/>
            <a:chOff x="6066000" y="4187880"/>
            <a:chExt cx="1846080" cy="1311120"/>
          </a:xfrm>
        </p:grpSpPr>
        <p:pic>
          <p:nvPicPr>
            <p:cNvPr id="229" name="Obdélník 18" descr=""/>
            <p:cNvPicPr/>
            <p:nvPr/>
          </p:nvPicPr>
          <p:blipFill>
            <a:blip r:embed="rId1"/>
            <a:stretch/>
          </p:blipFill>
          <p:spPr>
            <a:xfrm>
              <a:off x="6066000" y="4187880"/>
              <a:ext cx="184608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126120" y="4226040"/>
              <a:ext cx="173376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Rozpis mzdových příspěvk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rovázanost příloh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Obdélník 4"/>
          <p:cNvGrpSpPr/>
          <p:nvPr/>
        </p:nvGrpSpPr>
        <p:grpSpPr>
          <a:xfrm>
            <a:off x="3024360" y="2724120"/>
            <a:ext cx="1846080" cy="1397160"/>
            <a:chOff x="3024360" y="2724120"/>
            <a:chExt cx="1846080" cy="1397160"/>
          </a:xfrm>
        </p:grpSpPr>
        <p:pic>
          <p:nvPicPr>
            <p:cNvPr id="233" name="Obdélník 4" descr=""/>
            <p:cNvPicPr/>
            <p:nvPr/>
          </p:nvPicPr>
          <p:blipFill>
            <a:blip r:embed="rId2"/>
            <a:stretch/>
          </p:blipFill>
          <p:spPr>
            <a:xfrm>
              <a:off x="3024360" y="2724120"/>
              <a:ext cx="18460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3083040" y="2759040"/>
              <a:ext cx="1735200" cy="12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Soupiska účetních doklad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Obdélník 7"/>
          <p:cNvGrpSpPr/>
          <p:nvPr/>
        </p:nvGrpSpPr>
        <p:grpSpPr>
          <a:xfrm>
            <a:off x="536400" y="1878120"/>
            <a:ext cx="1401840" cy="1798560"/>
            <a:chOff x="536400" y="1878120"/>
            <a:chExt cx="1401840" cy="1798560"/>
          </a:xfrm>
        </p:grpSpPr>
        <p:pic>
          <p:nvPicPr>
            <p:cNvPr id="236" name="Obdélník 7" descr=""/>
            <p:cNvPicPr/>
            <p:nvPr/>
          </p:nvPicPr>
          <p:blipFill>
            <a:blip r:embed="rId3"/>
            <a:stretch/>
          </p:blipFill>
          <p:spPr>
            <a:xfrm>
              <a:off x="536400" y="1878120"/>
              <a:ext cx="140184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595440" y="1913040"/>
              <a:ext cx="128880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Účetní dokl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Obdélník 8"/>
          <p:cNvGrpSpPr/>
          <p:nvPr/>
        </p:nvGrpSpPr>
        <p:grpSpPr>
          <a:xfrm>
            <a:off x="669960" y="2054160"/>
            <a:ext cx="1403280" cy="1798560"/>
            <a:chOff x="669960" y="2054160"/>
            <a:chExt cx="1403280" cy="1798560"/>
          </a:xfrm>
        </p:grpSpPr>
        <p:pic>
          <p:nvPicPr>
            <p:cNvPr id="239" name="Obdélník 8" descr=""/>
            <p:cNvPicPr/>
            <p:nvPr/>
          </p:nvPicPr>
          <p:blipFill>
            <a:blip r:embed="rId4"/>
            <a:stretch/>
          </p:blipFill>
          <p:spPr>
            <a:xfrm>
              <a:off x="669960" y="2054160"/>
              <a:ext cx="14032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728640" y="209088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Účetní dokl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Obdélník 9"/>
          <p:cNvGrpSpPr/>
          <p:nvPr/>
        </p:nvGrpSpPr>
        <p:grpSpPr>
          <a:xfrm>
            <a:off x="822240" y="2206800"/>
            <a:ext cx="1403280" cy="1798560"/>
            <a:chOff x="822240" y="2206800"/>
            <a:chExt cx="1403280" cy="1798560"/>
          </a:xfrm>
        </p:grpSpPr>
        <p:pic>
          <p:nvPicPr>
            <p:cNvPr id="242" name="Obdélník 9" descr=""/>
            <p:cNvPicPr/>
            <p:nvPr/>
          </p:nvPicPr>
          <p:blipFill>
            <a:blip r:embed="rId5"/>
            <a:stretch/>
          </p:blipFill>
          <p:spPr>
            <a:xfrm>
              <a:off x="822240" y="2206800"/>
              <a:ext cx="14032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880920" y="224316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Účetní dokl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Obdélník 13"/>
          <p:cNvGrpSpPr/>
          <p:nvPr/>
        </p:nvGrpSpPr>
        <p:grpSpPr>
          <a:xfrm>
            <a:off x="847800" y="5035680"/>
            <a:ext cx="1401840" cy="1798560"/>
            <a:chOff x="847800" y="5035680"/>
            <a:chExt cx="1401840" cy="1798560"/>
          </a:xfrm>
        </p:grpSpPr>
        <p:pic>
          <p:nvPicPr>
            <p:cNvPr id="245" name="Obdélník 13" descr=""/>
            <p:cNvPicPr/>
            <p:nvPr/>
          </p:nvPicPr>
          <p:blipFill>
            <a:blip r:embed="rId6"/>
            <a:stretch/>
          </p:blipFill>
          <p:spPr>
            <a:xfrm>
              <a:off x="847800" y="5035680"/>
              <a:ext cx="140184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906480" y="506880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Provozní úč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Obdélník 12"/>
          <p:cNvGrpSpPr/>
          <p:nvPr/>
        </p:nvGrpSpPr>
        <p:grpSpPr>
          <a:xfrm>
            <a:off x="2000160" y="4541760"/>
            <a:ext cx="1425600" cy="1803600"/>
            <a:chOff x="2000160" y="4541760"/>
            <a:chExt cx="1425600" cy="1803600"/>
          </a:xfrm>
        </p:grpSpPr>
        <p:pic>
          <p:nvPicPr>
            <p:cNvPr id="248" name="Obdélník 12" descr=""/>
            <p:cNvPicPr/>
            <p:nvPr/>
          </p:nvPicPr>
          <p:blipFill>
            <a:blip r:embed="rId7"/>
            <a:stretch/>
          </p:blipFill>
          <p:spPr>
            <a:xfrm>
              <a:off x="2000160" y="4541760"/>
              <a:ext cx="1425600" cy="180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062080" y="457992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Projektový úč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Obdélník 15"/>
          <p:cNvGrpSpPr/>
          <p:nvPr/>
        </p:nvGrpSpPr>
        <p:grpSpPr>
          <a:xfrm>
            <a:off x="5913360" y="3054240"/>
            <a:ext cx="1846440" cy="1335240"/>
            <a:chOff x="5913360" y="3054240"/>
            <a:chExt cx="1846440" cy="1335240"/>
          </a:xfrm>
        </p:grpSpPr>
        <p:pic>
          <p:nvPicPr>
            <p:cNvPr id="251" name="Obdélník 15" descr=""/>
            <p:cNvPicPr/>
            <p:nvPr/>
          </p:nvPicPr>
          <p:blipFill>
            <a:blip r:embed="rId8"/>
            <a:stretch/>
          </p:blipFill>
          <p:spPr>
            <a:xfrm>
              <a:off x="5913360" y="3054240"/>
              <a:ext cx="1846440" cy="13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5973840" y="3112920"/>
              <a:ext cx="1733400" cy="120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Rozpis cestovních náhrad zahraniční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Obdélník 16"/>
          <p:cNvGrpSpPr/>
          <p:nvPr/>
        </p:nvGrpSpPr>
        <p:grpSpPr>
          <a:xfrm>
            <a:off x="5688000" y="1968480"/>
            <a:ext cx="1852560" cy="1305000"/>
            <a:chOff x="5688000" y="1968480"/>
            <a:chExt cx="1852560" cy="1305000"/>
          </a:xfrm>
        </p:grpSpPr>
        <p:pic>
          <p:nvPicPr>
            <p:cNvPr id="254" name="Obdélník 16" descr=""/>
            <p:cNvPicPr/>
            <p:nvPr/>
          </p:nvPicPr>
          <p:blipFill>
            <a:blip r:embed="rId9"/>
            <a:stretch/>
          </p:blipFill>
          <p:spPr>
            <a:xfrm>
              <a:off x="5688000" y="1968480"/>
              <a:ext cx="18525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"/>
            <p:cNvSpPr/>
            <p:nvPr/>
          </p:nvSpPr>
          <p:spPr>
            <a:xfrm>
              <a:off x="5751360" y="2001960"/>
              <a:ext cx="1733760" cy="11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Rozpis mzdových výdajů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Obdélník 17"/>
          <p:cNvGrpSpPr/>
          <p:nvPr/>
        </p:nvGrpSpPr>
        <p:grpSpPr>
          <a:xfrm>
            <a:off x="8047080" y="1163520"/>
            <a:ext cx="1401840" cy="1798920"/>
            <a:chOff x="8047080" y="1163520"/>
            <a:chExt cx="1401840" cy="1798920"/>
          </a:xfrm>
        </p:grpSpPr>
        <p:pic>
          <p:nvPicPr>
            <p:cNvPr id="257" name="Obdélník 17" descr=""/>
            <p:cNvPicPr/>
            <p:nvPr/>
          </p:nvPicPr>
          <p:blipFill>
            <a:blip r:embed="rId10"/>
            <a:stretch/>
          </p:blipFill>
          <p:spPr>
            <a:xfrm>
              <a:off x="8047080" y="1163520"/>
              <a:ext cx="1401840" cy="179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8107200" y="120168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Pracovní výka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Obdélník 20"/>
          <p:cNvGrpSpPr/>
          <p:nvPr/>
        </p:nvGrpSpPr>
        <p:grpSpPr>
          <a:xfrm>
            <a:off x="8265960" y="4943520"/>
            <a:ext cx="1408320" cy="1798560"/>
            <a:chOff x="8265960" y="4943520"/>
            <a:chExt cx="1408320" cy="1798560"/>
          </a:xfrm>
        </p:grpSpPr>
        <p:pic>
          <p:nvPicPr>
            <p:cNvPr id="260" name="Obdélník 20" descr=""/>
            <p:cNvPicPr/>
            <p:nvPr/>
          </p:nvPicPr>
          <p:blipFill>
            <a:blip r:embed="rId11"/>
            <a:stretch/>
          </p:blipFill>
          <p:spPr>
            <a:xfrm>
              <a:off x="8265960" y="4943520"/>
              <a:ext cx="140832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8329680" y="4979880"/>
              <a:ext cx="128916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Seznam školen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62" name="Přímá spojovací šipka 22"/>
          <p:cNvCxnSpPr/>
          <p:nvPr/>
        </p:nvCxnSpPr>
        <p:spPr>
          <a:xfrm flipH="1" flipV="1">
            <a:off x="2169720" y="3087000"/>
            <a:ext cx="913680" cy="316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3" name="Přímá spojovací šipka 25"/>
          <p:cNvCxnSpPr/>
          <p:nvPr/>
        </p:nvCxnSpPr>
        <p:spPr>
          <a:xfrm flipH="1">
            <a:off x="2706480" y="4047840"/>
            <a:ext cx="124344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4" name="Přímá spojovací šipka 28"/>
          <p:cNvCxnSpPr/>
          <p:nvPr/>
        </p:nvCxnSpPr>
        <p:spPr>
          <a:xfrm flipV="1">
            <a:off x="4818240" y="2601720"/>
            <a:ext cx="933840" cy="77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5" name="Přímá spojovací šipka 30"/>
          <p:cNvCxnSpPr/>
          <p:nvPr/>
        </p:nvCxnSpPr>
        <p:spPr>
          <a:xfrm>
            <a:off x="4818240" y="3403440"/>
            <a:ext cx="1156320" cy="310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6" name="Přímá spojovací šipka 33"/>
          <p:cNvCxnSpPr/>
          <p:nvPr/>
        </p:nvCxnSpPr>
        <p:spPr>
          <a:xfrm>
            <a:off x="4817880" y="3403440"/>
            <a:ext cx="1308600" cy="142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7" name="Přímá spojovací šipka 37"/>
          <p:cNvCxnSpPr/>
          <p:nvPr/>
        </p:nvCxnSpPr>
        <p:spPr>
          <a:xfrm flipV="1">
            <a:off x="7485120" y="2045520"/>
            <a:ext cx="622800" cy="578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8" name="Přímá spojovací šipka 40"/>
          <p:cNvCxnSpPr/>
          <p:nvPr/>
        </p:nvCxnSpPr>
        <p:spPr>
          <a:xfrm>
            <a:off x="7859520" y="4825800"/>
            <a:ext cx="47052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50400" y="3068640"/>
            <a:ext cx="81788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Zadání žádosti o platb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Obrázek 4" descr=""/>
          <p:cNvPicPr/>
          <p:nvPr/>
        </p:nvPicPr>
        <p:blipFill>
          <a:blip r:embed="rId1"/>
          <a:stretch/>
        </p:blipFill>
        <p:spPr>
          <a:xfrm>
            <a:off x="1084320" y="1327320"/>
            <a:ext cx="7556400" cy="4967280"/>
          </a:xfrm>
          <a:prstGeom prst="rect">
            <a:avLst/>
          </a:prstGeom>
          <a:ln w="0">
            <a:noFill/>
          </a:ln>
        </p:spPr>
      </p:pic>
      <p:sp>
        <p:nvSpPr>
          <p:cNvPr id="271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- Benefit 7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Zaoblený obdélníkový popisek 6"/>
          <p:cNvGrpSpPr/>
          <p:nvPr/>
        </p:nvGrpSpPr>
        <p:grpSpPr>
          <a:xfrm>
            <a:off x="6808680" y="2163600"/>
            <a:ext cx="2494080" cy="755640"/>
            <a:chOff x="6808680" y="2163600"/>
            <a:chExt cx="2494080" cy="755640"/>
          </a:xfrm>
        </p:grpSpPr>
        <p:pic>
          <p:nvPicPr>
            <p:cNvPr id="273" name="Zaoblený obdélníkový popisek 6" descr=""/>
            <p:cNvPicPr/>
            <p:nvPr/>
          </p:nvPicPr>
          <p:blipFill>
            <a:blip r:embed="rId2"/>
            <a:stretch/>
          </p:blipFill>
          <p:spPr>
            <a:xfrm>
              <a:off x="6808680" y="2163600"/>
              <a:ext cx="249408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907400" y="2424240"/>
              <a:ext cx="13158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Ex-a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Obrázek 10" descr=""/>
          <p:cNvPicPr/>
          <p:nvPr/>
        </p:nvPicPr>
        <p:blipFill>
          <a:blip r:embed="rId1"/>
          <a:srcRect l="1906" t="0" r="0" b="0"/>
          <a:stretch/>
        </p:blipFill>
        <p:spPr>
          <a:xfrm>
            <a:off x="1306440" y="1424160"/>
            <a:ext cx="7290000" cy="4889160"/>
          </a:xfrm>
          <a:prstGeom prst="rect">
            <a:avLst/>
          </a:prstGeom>
          <a:ln w="0">
            <a:noFill/>
          </a:ln>
        </p:spPr>
      </p:pic>
      <p:sp>
        <p:nvSpPr>
          <p:cNvPr id="276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Zaoblený obdélníkový popisek 10"/>
          <p:cNvGrpSpPr/>
          <p:nvPr/>
        </p:nvGrpSpPr>
        <p:grpSpPr>
          <a:xfrm>
            <a:off x="5711760" y="1163520"/>
            <a:ext cx="3846600" cy="1135080"/>
            <a:chOff x="5711760" y="1163520"/>
            <a:chExt cx="3846600" cy="1135080"/>
          </a:xfrm>
        </p:grpSpPr>
        <p:pic>
          <p:nvPicPr>
            <p:cNvPr id="278" name="Zaoblený obdélníkový popisek 10" descr=""/>
            <p:cNvPicPr/>
            <p:nvPr/>
          </p:nvPicPr>
          <p:blipFill>
            <a:blip r:embed="rId2"/>
            <a:stretch/>
          </p:blipFill>
          <p:spPr>
            <a:xfrm>
              <a:off x="5711760" y="1163520"/>
              <a:ext cx="384660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6956280" y="1252440"/>
              <a:ext cx="247968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V jaké struktuře finanční prostředky požaduje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1"/>
          <a:stretch/>
        </p:blipFill>
        <p:spPr>
          <a:xfrm>
            <a:off x="1084320" y="1812960"/>
            <a:ext cx="7943760" cy="3033720"/>
          </a:xfrm>
          <a:prstGeom prst="rect">
            <a:avLst/>
          </a:prstGeom>
          <a:ln w="0">
            <a:noFill/>
          </a:ln>
        </p:spPr>
      </p:pic>
      <p:grpSp>
        <p:nvGrpSpPr>
          <p:cNvPr id="282" name="Zaoblený obdélníkový popisek 4"/>
          <p:cNvGrpSpPr/>
          <p:nvPr/>
        </p:nvGrpSpPr>
        <p:grpSpPr>
          <a:xfrm>
            <a:off x="6145200" y="4468680"/>
            <a:ext cx="2816280" cy="1030320"/>
            <a:chOff x="6145200" y="4468680"/>
            <a:chExt cx="2816280" cy="1030320"/>
          </a:xfrm>
        </p:grpSpPr>
        <p:pic>
          <p:nvPicPr>
            <p:cNvPr id="283" name="Zaoblený obdélníkový popisek 4" descr=""/>
            <p:cNvPicPr/>
            <p:nvPr/>
          </p:nvPicPr>
          <p:blipFill>
            <a:blip r:embed="rId2"/>
            <a:stretch/>
          </p:blipFill>
          <p:spPr>
            <a:xfrm>
              <a:off x="6145200" y="4468680"/>
              <a:ext cx="281628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6354720" y="4917960"/>
              <a:ext cx="2527200" cy="48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Info o přijatých úrocí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Zaoblený obdélníkový popisek 5"/>
          <p:cNvGrpSpPr/>
          <p:nvPr/>
        </p:nvGrpSpPr>
        <p:grpSpPr>
          <a:xfrm>
            <a:off x="5735520" y="1504800"/>
            <a:ext cx="2695680" cy="1603440"/>
            <a:chOff x="5735520" y="1504800"/>
            <a:chExt cx="2695680" cy="1603440"/>
          </a:xfrm>
        </p:grpSpPr>
        <p:pic>
          <p:nvPicPr>
            <p:cNvPr id="286" name="Zaoblený obdélníkový popisek 5" descr=""/>
            <p:cNvPicPr/>
            <p:nvPr/>
          </p:nvPicPr>
          <p:blipFill>
            <a:blip r:embed="rId3"/>
            <a:stretch/>
          </p:blipFill>
          <p:spPr>
            <a:xfrm>
              <a:off x="5735520" y="1504800"/>
              <a:ext cx="269568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5829480" y="1590840"/>
              <a:ext cx="251136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Částka nepřímých nákladů dle Soupisk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Obrázek 8" descr=""/>
          <p:cNvPicPr/>
          <p:nvPr/>
        </p:nvPicPr>
        <p:blipFill>
          <a:blip r:embed="rId1"/>
          <a:srcRect l="1909" t="0" r="1909" b="0"/>
          <a:stretch/>
        </p:blipFill>
        <p:spPr>
          <a:xfrm>
            <a:off x="1573200" y="1512720"/>
            <a:ext cx="6473880" cy="4889520"/>
          </a:xfrm>
          <a:prstGeom prst="rect">
            <a:avLst/>
          </a:prstGeom>
          <a:ln w="0">
            <a:noFill/>
          </a:ln>
        </p:spPr>
      </p:pic>
      <p:sp>
        <p:nvSpPr>
          <p:cNvPr id="28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Zaoblený obdélníkový popisek 11"/>
          <p:cNvGrpSpPr/>
          <p:nvPr/>
        </p:nvGrpSpPr>
        <p:grpSpPr>
          <a:xfrm>
            <a:off x="7265880" y="1079640"/>
            <a:ext cx="2543400" cy="1127160"/>
            <a:chOff x="7265880" y="1079640"/>
            <a:chExt cx="2543400" cy="1127160"/>
          </a:xfrm>
        </p:grpSpPr>
        <p:pic>
          <p:nvPicPr>
            <p:cNvPr id="291" name="Zaoblený obdélníkový popisek 11" descr=""/>
            <p:cNvPicPr/>
            <p:nvPr/>
          </p:nvPicPr>
          <p:blipFill>
            <a:blip r:embed="rId2"/>
            <a:stretch/>
          </p:blipFill>
          <p:spPr>
            <a:xfrm>
              <a:off x="7265880" y="1079640"/>
              <a:ext cx="2543400" cy="112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7845480" y="1163520"/>
              <a:ext cx="185724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ffff"/>
                  </a:solidFill>
                  <a:latin typeface="Calibri"/>
                </a:rPr>
                <a:t>V jaké struktuře byly prostředky utracen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Zaoblený obdélník 15"/>
          <p:cNvGrpSpPr/>
          <p:nvPr/>
        </p:nvGrpSpPr>
        <p:grpSpPr>
          <a:xfrm>
            <a:off x="-85680" y="2719440"/>
            <a:ext cx="1311120" cy="2913120"/>
            <a:chOff x="-85680" y="2719440"/>
            <a:chExt cx="1311120" cy="2913120"/>
          </a:xfrm>
        </p:grpSpPr>
        <p:pic>
          <p:nvPicPr>
            <p:cNvPr id="294" name="Zaoblený obdélník 15" descr=""/>
            <p:cNvPicPr/>
            <p:nvPr/>
          </p:nvPicPr>
          <p:blipFill>
            <a:blip r:embed="rId3"/>
            <a:stretch/>
          </p:blipFill>
          <p:spPr>
            <a:xfrm>
              <a:off x="-85680" y="2719440"/>
              <a:ext cx="1311120" cy="29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31680" y="2816280"/>
              <a:ext cx="108288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17375e"/>
                  </a:solidFill>
                  <a:latin typeface="Calibri"/>
                </a:rPr>
                <a:t>Částky zde uvedené budou shodn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6" name="Zahnutá šipka doprava 21"/>
          <p:cNvSpPr/>
          <p:nvPr/>
        </p:nvSpPr>
        <p:spPr>
          <a:xfrm>
            <a:off x="1039680" y="2446200"/>
            <a:ext cx="533520" cy="2355840"/>
          </a:xfrm>
          <a:custGeom>
            <a:avLst/>
            <a:gdLst>
              <a:gd name="textAreaLeft" fmla="*/ 71280 w 533520"/>
              <a:gd name="textAreaRight" fmla="*/ 462240 w 533520"/>
              <a:gd name="textAreaTop" fmla="*/ 538920 h 2355840"/>
              <a:gd name="textAreaBottom" fmla="*/ 1750320 h 23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883" stAng="-5400000" swAng="-5400000"/>
                <a:lnTo>
                  <a:pt x="0" y="11106"/>
                </a:lnTo>
                <a:arcTo wR="21600" hR="9883" stAng="10800000" swAng="-3633806"/>
                <a:lnTo>
                  <a:pt x="16200" y="21286"/>
                </a:lnTo>
                <a:lnTo>
                  <a:pt x="21600" y="20378"/>
                </a:lnTo>
                <a:lnTo>
                  <a:pt x="16200" y="18841"/>
                </a:lnTo>
                <a:lnTo>
                  <a:pt x="16200" y="19452"/>
                </a:lnTo>
                <a:arcTo wR="21600" hR="9883" stAng="7166194" swAng="3536322"/>
                <a:lnTo>
                  <a:pt x="41" y="10495"/>
                </a:lnTo>
                <a:arcTo wR="21600" hR="9883" stAng="-10702516" swAng="5302516"/>
                <a:close/>
              </a:path>
              <a:path fill="darkenLess" w="21600" h="21600">
                <a:moveTo>
                  <a:pt x="21600" y="0"/>
                </a:moveTo>
                <a:arcTo wR="21600" hR="9883" stAng="-5400000" swAng="-5400000"/>
                <a:lnTo>
                  <a:pt x="0" y="9883"/>
                </a:lnTo>
                <a:arcTo wR="21600" hR="9883" stAng="10800000" swAng="-97484"/>
                <a:lnTo>
                  <a:pt x="41" y="10495"/>
                </a:lnTo>
                <a:arcTo wR="21600" hR="9883" stAng="-10702516" swAng="530251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Zahnutá šipka doprava 22"/>
          <p:cNvSpPr/>
          <p:nvPr/>
        </p:nvSpPr>
        <p:spPr>
          <a:xfrm>
            <a:off x="1039680" y="3691080"/>
            <a:ext cx="533520" cy="2355840"/>
          </a:xfrm>
          <a:custGeom>
            <a:avLst/>
            <a:gdLst>
              <a:gd name="textAreaLeft" fmla="*/ 71280 w 533520"/>
              <a:gd name="textAreaRight" fmla="*/ 462240 w 533520"/>
              <a:gd name="textAreaTop" fmla="*/ 538920 h 2355840"/>
              <a:gd name="textAreaBottom" fmla="*/ 1750320 h 23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883" stAng="-5400000" swAng="-5400000"/>
                <a:lnTo>
                  <a:pt x="0" y="11106"/>
                </a:lnTo>
                <a:arcTo wR="21600" hR="9883" stAng="10800000" swAng="-3633806"/>
                <a:lnTo>
                  <a:pt x="16200" y="21286"/>
                </a:lnTo>
                <a:lnTo>
                  <a:pt x="21600" y="20378"/>
                </a:lnTo>
                <a:lnTo>
                  <a:pt x="16200" y="18841"/>
                </a:lnTo>
                <a:lnTo>
                  <a:pt x="16200" y="19452"/>
                </a:lnTo>
                <a:arcTo wR="21600" hR="9883" stAng="7166194" swAng="3536322"/>
                <a:lnTo>
                  <a:pt x="41" y="10495"/>
                </a:lnTo>
                <a:arcTo wR="21600" hR="9883" stAng="-10702516" swAng="5302516"/>
                <a:close/>
              </a:path>
              <a:path fill="darkenLess" w="21600" h="21600">
                <a:moveTo>
                  <a:pt x="21600" y="0"/>
                </a:moveTo>
                <a:arcTo wR="21600" hR="9883" stAng="-5400000" swAng="-5400000"/>
                <a:lnTo>
                  <a:pt x="0" y="9883"/>
                </a:lnTo>
                <a:arcTo wR="21600" hR="9883" stAng="10800000" swAng="-97484"/>
                <a:lnTo>
                  <a:pt x="41" y="10495"/>
                </a:lnTo>
                <a:arcTo wR="21600" hR="9883" stAng="-10702516" swAng="530251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88520" y="3068640"/>
            <a:ext cx="912996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Podezření z porušení rozpočtové kázn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Zástupný symbol pro text 3"/>
          <p:cNvSpPr/>
          <p:nvPr/>
        </p:nvSpPr>
        <p:spPr>
          <a:xfrm>
            <a:off x="355680" y="1601640"/>
            <a:ext cx="9725040" cy="52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rušení podmínek výběrového řízení, např. není dodržena povinnost sčítání spolu souvisejících pln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pakované nedoložení požadovaných dokla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způsobilé výdaje dle Příručky pro příjem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odůvodněné vý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hospodárné výd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ylné plat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hrnutí výdaje nepřímého charakteru do přímých nákla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Podezření z porušení rozpočtové kázn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Zástupný symbol pro text 3" descr=""/>
          <p:cNvPicPr/>
          <p:nvPr/>
        </p:nvPicPr>
        <p:blipFill>
          <a:blip r:embed="rId1"/>
          <a:stretch/>
        </p:blipFill>
        <p:spPr>
          <a:xfrm>
            <a:off x="255600" y="1504800"/>
            <a:ext cx="9833040" cy="4816800"/>
          </a:xfrm>
          <a:prstGeom prst="rect">
            <a:avLst/>
          </a:prstGeom>
          <a:ln w="0">
            <a:noFill/>
          </a:ln>
        </p:spPr>
      </p:pic>
      <p:sp>
        <p:nvSpPr>
          <p:cNvPr id="302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Řešení nesrovnal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ástupný symbol pro text 3"/>
          <p:cNvSpPr/>
          <p:nvPr/>
        </p:nvSpPr>
        <p:spPr>
          <a:xfrm>
            <a:off x="0" y="1735200"/>
            <a:ext cx="992988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mé náklady – přímo přiřaditelné k určité aktivitě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utno dokladovat, vykaz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přímé náklady – náklady spojené s administrací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Ulehčení realizace a kontroly pro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ouze neinvestiční výdaj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ní nutné doklad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íručka pro příjemce, verze 4, str. 61 - 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Zástupný symbol pro text 3"/>
          <p:cNvSpPr/>
          <p:nvPr/>
        </p:nvSpPr>
        <p:spPr>
          <a:xfrm>
            <a:off x="1890720" y="3600360"/>
            <a:ext cx="6978600" cy="24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g. Dana Voden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E-mail: dana.vodenkova@msmt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el.: 234 814 17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Nadpis 2"/>
          <p:cNvSpPr/>
          <p:nvPr/>
        </p:nvSpPr>
        <p:spPr>
          <a:xfrm>
            <a:off x="684360" y="166212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ástupný symbol pro text 3"/>
          <p:cNvSpPr/>
          <p:nvPr/>
        </p:nvSpPr>
        <p:spPr>
          <a:xfrm>
            <a:off x="0" y="1735200"/>
            <a:ext cx="992988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ajištění úklidu, ostra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Zajištění publi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Kopír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Tisk pro administraci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eškeré tuzemské cestovní náhra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ájemné kanceláře pro realizační tý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áklady na pořízení  zásob či materiálu pro občerstvení pracovníků či cílové skupiny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Nepřímé ná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50400" y="3068640"/>
            <a:ext cx="817884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  <a:ea typeface="Arial"/>
              </a:rPr>
              <a:t>Přílohy monitorovacích zpráv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ástupný symbol pro text 3"/>
          <p:cNvSpPr/>
          <p:nvPr/>
        </p:nvSpPr>
        <p:spPr>
          <a:xfrm>
            <a:off x="0" y="1779480"/>
            <a:ext cx="9929880" cy="457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Přehled účetních dokladů ke všem přímým způsobilým výdajům projektu dokládaným v rámci dané MZ  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(výdaj musí věcně souviset s monitorovaným období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bsahuje soupis všech účetních dokladů bez ohledu na hodnotu účetního dokl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Řazení dokladů v soupisce je vzestupně dle jednotlivých kapitol (položek) rozpo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576"/>
              </a:spcAft>
              <a:buClr>
                <a:srgbClr val="ffa41d"/>
              </a:buClr>
              <a:buFont typeface="Arial"/>
              <a:buChar char="•"/>
              <a:tabLst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Nepřímé náklady se dopočítávají podle výše nákladů přímý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oupiska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Zástupný symbol pro text 3"/>
          <p:cNvSpPr/>
          <p:nvPr/>
        </p:nvSpPr>
        <p:spPr>
          <a:xfrm>
            <a:off x="372960" y="1541520"/>
            <a:ext cx="902520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lvl="3" marL="681120" indent="-23652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Výdaje, které jsou rozepsány ve vlastních přílohách, jsou v Soupisce uvedeny souhrn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mzdových/platových výdajů realizačního týmu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cestovních náhrad- zahraničn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Odpi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4400" indent="-236520">
              <a:lnSpc>
                <a:spcPct val="100000"/>
              </a:lnSpc>
              <a:spcAft>
                <a:spcPts val="1199"/>
              </a:spcAft>
              <a:buClr>
                <a:srgbClr val="ffa41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Rozpis mzdových příspěvků pro školené os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oupiska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395360" y="5424480"/>
          <a:ext cx="7512120" cy="396720"/>
        </p:xfrm>
        <a:graphic>
          <a:graphicData uri="http://schemas.openxmlformats.org/drawingml/2006/table">
            <a:tbl>
              <a:tblPr/>
              <a:tblGrid>
                <a:gridCol w="5600880"/>
                <a:gridCol w="19112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dy 1/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1006560"/>
                          <a:tab algn="l" pos="2013120"/>
                          <a:tab algn="l" pos="3019320"/>
                          <a:tab algn="l" pos="4025880"/>
                          <a:tab algn="l" pos="5032440"/>
                          <a:tab algn="l" pos="6039000"/>
                          <a:tab algn="l" pos="7045200"/>
                          <a:tab algn="l" pos="8051760"/>
                          <a:tab algn="l" pos="9058320"/>
                          <a:tab algn="l" pos="1006488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125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Nadpis 2"/>
          <p:cNvSpPr/>
          <p:nvPr/>
        </p:nvSpPr>
        <p:spPr>
          <a:xfrm>
            <a:off x="684360" y="846000"/>
            <a:ext cx="86947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Calibri"/>
              </a:rPr>
              <a:t>Soupiska účetních doklad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rcRect l="0" t="0" r="10517" b="0"/>
          <a:stretch/>
        </p:blipFill>
        <p:spPr>
          <a:xfrm>
            <a:off x="239760" y="1541520"/>
            <a:ext cx="9494640" cy="2238480"/>
          </a:xfrm>
          <a:prstGeom prst="rect">
            <a:avLst/>
          </a:prstGeom>
          <a:ln w="0">
            <a:noFill/>
          </a:ln>
        </p:spPr>
      </p:pic>
      <p:pic>
        <p:nvPicPr>
          <p:cNvPr id="101" name="Obrázek 4" descr="Soupiska.JPG"/>
          <p:cNvPicPr/>
          <p:nvPr/>
        </p:nvPicPr>
        <p:blipFill>
          <a:blip r:embed="rId2"/>
          <a:srcRect l="285" t="7222" r="4279" b="0"/>
          <a:stretch/>
        </p:blipFill>
        <p:spPr>
          <a:xfrm>
            <a:off x="247680" y="4076640"/>
            <a:ext cx="9593280" cy="2210040"/>
          </a:xfrm>
          <a:prstGeom prst="rect">
            <a:avLst/>
          </a:prstGeom>
          <a:ln w="0">
            <a:noFill/>
          </a:ln>
        </p:spPr>
      </p:pic>
      <p:grpSp>
        <p:nvGrpSpPr>
          <p:cNvPr id="102" name="Zaoblený obdélníkový popisek 5"/>
          <p:cNvGrpSpPr/>
          <p:nvPr/>
        </p:nvGrpSpPr>
        <p:grpSpPr>
          <a:xfrm>
            <a:off x="8137440" y="5321160"/>
            <a:ext cx="1817640" cy="1067040"/>
            <a:chOff x="8137440" y="5321160"/>
            <a:chExt cx="1817640" cy="1067040"/>
          </a:xfrm>
        </p:grpSpPr>
        <p:pic>
          <p:nvPicPr>
            <p:cNvPr id="103" name="Zaoblený obdélníkový popisek 5" descr=""/>
            <p:cNvPicPr/>
            <p:nvPr/>
          </p:nvPicPr>
          <p:blipFill>
            <a:blip r:embed="rId3"/>
            <a:stretch/>
          </p:blipFill>
          <p:spPr>
            <a:xfrm>
              <a:off x="8137440" y="5321160"/>
              <a:ext cx="181764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8236080" y="5553000"/>
              <a:ext cx="1627200" cy="7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ffff"/>
                  </a:solidFill>
                  <a:latin typeface="Calibri"/>
                </a:rPr>
                <a:t>ŽoP-předpokládané celkové výdaj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Zaoblený obdélníkový popisek 7"/>
          <p:cNvGrpSpPr/>
          <p:nvPr/>
        </p:nvGrpSpPr>
        <p:grpSpPr>
          <a:xfrm>
            <a:off x="3067200" y="3108240"/>
            <a:ext cx="1796760" cy="1586160"/>
            <a:chOff x="3067200" y="3108240"/>
            <a:chExt cx="1796760" cy="1586160"/>
          </a:xfrm>
        </p:grpSpPr>
        <p:pic>
          <p:nvPicPr>
            <p:cNvPr id="106" name="Zaoblený obdélníkový popisek 7" descr=""/>
            <p:cNvPicPr/>
            <p:nvPr/>
          </p:nvPicPr>
          <p:blipFill>
            <a:blip r:embed="rId4"/>
            <a:stretch/>
          </p:blipFill>
          <p:spPr>
            <a:xfrm>
              <a:off x="3067200" y="3108240"/>
              <a:ext cx="1796760" cy="15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181320" y="3209760"/>
              <a:ext cx="1495440" cy="96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ffff"/>
                  </a:solidFill>
                  <a:latin typeface="Calibri"/>
                </a:rPr>
                <a:t>Zadejte procento NN uvedené v právním akt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Elipsa 13"/>
          <p:cNvSpPr/>
          <p:nvPr/>
        </p:nvSpPr>
        <p:spPr>
          <a:xfrm>
            <a:off x="7396200" y="4046400"/>
            <a:ext cx="533520" cy="22248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lipsa 14"/>
          <p:cNvSpPr/>
          <p:nvPr/>
        </p:nvSpPr>
        <p:spPr>
          <a:xfrm>
            <a:off x="7396200" y="4535640"/>
            <a:ext cx="533520" cy="22212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lipsa 15"/>
          <p:cNvSpPr/>
          <p:nvPr/>
        </p:nvSpPr>
        <p:spPr>
          <a:xfrm>
            <a:off x="7396200" y="4846680"/>
            <a:ext cx="533520" cy="222120"/>
          </a:xfrm>
          <a:prstGeom prst="ellipse">
            <a:avLst/>
          </a:prstGeom>
          <a:noFill/>
          <a:ln w="2844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Zakřivená spojovací čára 17"/>
          <p:cNvCxnSpPr>
            <a:stCxn id="108" idx="6"/>
            <a:endCxn id="109" idx="6"/>
          </p:cNvCxnSpPr>
          <p:nvPr/>
        </p:nvCxnSpPr>
        <p:spPr>
          <a:xfrm>
            <a:off x="7929720" y="4157640"/>
            <a:ext cx="2160" cy="489600"/>
          </a:xfrm>
          <a:prstGeom prst="curvedConnector5">
            <a:avLst>
              <a:gd name="adj1" fmla="val 14380000"/>
              <a:gd name="adj2" fmla="val 49963"/>
              <a:gd name="adj3" fmla="val 14380000"/>
            </a:avLst>
          </a:prstGeom>
          <a:ln w="25560">
            <a:solidFill>
              <a:srgbClr val="f79646"/>
            </a:solidFill>
            <a:miter/>
          </a:ln>
        </p:spPr>
      </p:cxnSp>
      <p:cxnSp>
        <p:nvCxnSpPr>
          <p:cNvPr id="112" name="Zakřivená spojovací čára 19"/>
          <p:cNvCxnSpPr>
            <a:stCxn id="109" idx="6"/>
            <a:endCxn id="110" idx="6"/>
          </p:cNvCxnSpPr>
          <p:nvPr/>
        </p:nvCxnSpPr>
        <p:spPr>
          <a:xfrm>
            <a:off x="7929720" y="4646160"/>
            <a:ext cx="2160" cy="311760"/>
          </a:xfrm>
          <a:prstGeom prst="curvedConnector5">
            <a:avLst>
              <a:gd name="adj1" fmla="val 14380000"/>
              <a:gd name="adj2" fmla="val 49942"/>
              <a:gd name="adj3" fmla="val 14380000"/>
            </a:avLst>
          </a:prstGeom>
          <a:ln w="25560">
            <a:solidFill>
              <a:srgbClr val="f79646"/>
            </a:solidFill>
            <a:miter/>
            <a:tailEnd len="lg" type="triangle" w="lg"/>
          </a:ln>
        </p:spPr>
      </p:cxnSp>
      <p:grpSp>
        <p:nvGrpSpPr>
          <p:cNvPr id="113" name="Zaoblený obdélníkový popisek 20"/>
          <p:cNvGrpSpPr/>
          <p:nvPr/>
        </p:nvGrpSpPr>
        <p:grpSpPr>
          <a:xfrm>
            <a:off x="311040" y="5541840"/>
            <a:ext cx="2340000" cy="1425600"/>
            <a:chOff x="311040" y="5541840"/>
            <a:chExt cx="2340000" cy="1425600"/>
          </a:xfrm>
        </p:grpSpPr>
        <p:pic>
          <p:nvPicPr>
            <p:cNvPr id="114" name="Zaoblený obdélníkový popisek 20" descr=""/>
            <p:cNvPicPr/>
            <p:nvPr/>
          </p:nvPicPr>
          <p:blipFill>
            <a:blip r:embed="rId5"/>
            <a:stretch/>
          </p:blipFill>
          <p:spPr>
            <a:xfrm>
              <a:off x="311040" y="5541840"/>
              <a:ext cx="2340000" cy="14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436680" y="5665680"/>
              <a:ext cx="1606320" cy="11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ffffff"/>
                  </a:solidFill>
                  <a:latin typeface="Calibri"/>
                </a:rPr>
                <a:t>ŽoP- vyúčtování vynaložených celkových způsobilých výdaj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6:42:10Z</dcterms:created>
  <dc:creator>Zuzana ujanáková</dc:creator>
  <dc:description/>
  <dc:language>en-US</dc:language>
  <cp:lastModifiedBy>ugh</cp:lastModifiedBy>
  <dcterms:modified xsi:type="dcterms:W3CDTF">2011-01-17T12:55:32Z</dcterms:modified>
  <cp:revision>470</cp:revision>
  <dc:subject/>
  <dc:title>Název PPT </dc:title>
</cp:coreProperties>
</file>